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144-3874-4A55-8ADB-69AE7274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7EB-7AF5-4975-B4B4-C51CF8D6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1EA-88D7-4741-8E9F-68D23964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8EB-A32A-44E7-824D-78762D5A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0BD-EC57-4DDD-879B-96C6997B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6E66-6A82-49A3-BA03-D68C6273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E7FF-3591-460A-AFF4-6861A4B8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124-3756-44CB-9433-769F3E6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262-1EEE-4E77-8017-E287200D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237-1A0F-4113-9E06-C3E27841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E7F-9CF0-4C32-859A-E25EB5BD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443-C8C5-489F-84BB-5C1F105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E629-1DDC-4302-8C47-9AD8BF582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24000" y="549360"/>
            <a:ext cx="846432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Comic Sans MS"/>
              </a:rPr>
              <a:t>Unit 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Comic Sans MS"/>
              </a:rPr>
              <a:t>Is there a post office near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Comic Sans MS"/>
              </a:rPr>
              <a:t>Period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C:\Documents and Settings\teacher\桌面\魏静\Zw_005.gif"/>
          <p:cNvPicPr/>
          <p:nvPr/>
        </p:nvPicPr>
        <p:blipFill>
          <a:blip r:embed="rId2"/>
          <a:stretch/>
        </p:blipFill>
        <p:spPr>
          <a:xfrm>
            <a:off x="81532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9635" descr="bird12"/>
          <p:cNvPicPr/>
          <p:nvPr/>
        </p:nvPicPr>
        <p:blipFill>
          <a:blip r:embed="rId3"/>
          <a:stretch/>
        </p:blipFill>
        <p:spPr>
          <a:xfrm>
            <a:off x="6877080" y="404640"/>
            <a:ext cx="1270080" cy="10749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" descr="bird12"/>
          <p:cNvPicPr/>
          <p:nvPr/>
        </p:nvPicPr>
        <p:blipFill>
          <a:blip r:embed="rId4"/>
          <a:stretch/>
        </p:blipFill>
        <p:spPr>
          <a:xfrm>
            <a:off x="7550280" y="277920"/>
            <a:ext cx="1369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3793" descr="228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1" name="矩形 33794"/>
          <p:cNvSpPr/>
          <p:nvPr/>
        </p:nvSpPr>
        <p:spPr>
          <a:xfrm>
            <a:off x="826920" y="5300640"/>
            <a:ext cx="86360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libr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between the restaurant and the 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pic_162190"/>
          <p:cNvPicPr/>
          <p:nvPr/>
        </p:nvPicPr>
        <p:blipFill>
          <a:blip r:embed="rId2"/>
          <a:stretch/>
        </p:blipFill>
        <p:spPr>
          <a:xfrm>
            <a:off x="468360" y="189000"/>
            <a:ext cx="8101080" cy="5106960"/>
          </a:xfrm>
          <a:prstGeom prst="rect">
            <a:avLst/>
          </a:prstGeom>
          <a:ln w="0">
            <a:noFill/>
          </a:ln>
        </p:spPr>
      </p:pic>
      <p:sp>
        <p:nvSpPr>
          <p:cNvPr id="113" name="矩形 31749"/>
          <p:cNvSpPr/>
          <p:nvPr/>
        </p:nvSpPr>
        <p:spPr>
          <a:xfrm>
            <a:off x="2422440" y="527040"/>
            <a:ext cx="2008440" cy="876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34817" descr="228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矩形 34818"/>
          <p:cNvSpPr/>
          <p:nvPr/>
        </p:nvSpPr>
        <p:spPr>
          <a:xfrm>
            <a:off x="1547640" y="5589720"/>
            <a:ext cx="52563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’s the pay ph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pos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pic_162190"/>
          <p:cNvPicPr/>
          <p:nvPr/>
        </p:nvPicPr>
        <p:blipFill>
          <a:blip r:embed="rId2"/>
          <a:stretch/>
        </p:blipFill>
        <p:spPr>
          <a:xfrm>
            <a:off x="468360" y="189000"/>
            <a:ext cx="8101080" cy="525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31749"/>
          <p:cNvSpPr/>
          <p:nvPr/>
        </p:nvSpPr>
        <p:spPr>
          <a:xfrm>
            <a:off x="3821040" y="3036960"/>
            <a:ext cx="608040" cy="86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3793" descr="228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矩形 33794"/>
          <p:cNvSpPr/>
          <p:nvPr/>
        </p:nvSpPr>
        <p:spPr>
          <a:xfrm>
            <a:off x="1835280" y="5589720"/>
            <a:ext cx="64483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is the hot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on Bridge Stee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pic_162190"/>
          <p:cNvPicPr/>
          <p:nvPr/>
        </p:nvPicPr>
        <p:blipFill>
          <a:blip r:embed="rId2"/>
          <a:stretch/>
        </p:blipFill>
        <p:spPr>
          <a:xfrm>
            <a:off x="468360" y="189000"/>
            <a:ext cx="8101080" cy="5256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31749"/>
          <p:cNvSpPr/>
          <p:nvPr/>
        </p:nvSpPr>
        <p:spPr>
          <a:xfrm>
            <a:off x="4788000" y="4516560"/>
            <a:ext cx="2508120" cy="855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2916360" y="6102360"/>
            <a:ext cx="3328920" cy="587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5121" descr="(6TI]IUQE6FT{]RMVDE]DDP"/>
          <p:cNvPicPr/>
          <p:nvPr/>
        </p:nvPicPr>
        <p:blipFill>
          <a:blip r:embed="rId1"/>
          <a:stretch/>
        </p:blipFill>
        <p:spPr>
          <a:xfrm>
            <a:off x="324000" y="549360"/>
            <a:ext cx="8280360" cy="388764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5123"/>
          <p:cNvSpPr/>
          <p:nvPr/>
        </p:nvSpPr>
        <p:spPr>
          <a:xfrm>
            <a:off x="755640" y="4437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tel on Long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125"/>
          <p:cNvSpPr/>
          <p:nvPr/>
        </p:nvSpPr>
        <p:spPr>
          <a:xfrm>
            <a:off x="755640" y="4869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y phone near the post of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1749"/>
          <p:cNvSpPr/>
          <p:nvPr/>
        </p:nvSpPr>
        <p:spPr>
          <a:xfrm>
            <a:off x="4861080" y="3483000"/>
            <a:ext cx="2435040" cy="8143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3708360" y="2637000"/>
            <a:ext cx="1017720" cy="10587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556000" y="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755640" y="5300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数名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"/>
          <p:cNvSpPr/>
          <p:nvPr/>
        </p:nvSpPr>
        <p:spPr>
          <a:xfrm>
            <a:off x="755640" y="6237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wo cars on Long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"/>
          <p:cNvSpPr/>
          <p:nvPr/>
        </p:nvSpPr>
        <p:spPr>
          <a:xfrm>
            <a:off x="755640" y="5732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数名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"/>
          <p:cNvSpPr/>
          <p:nvPr/>
        </p:nvSpPr>
        <p:spPr>
          <a:xfrm>
            <a:off x="179280" y="2492280"/>
            <a:ext cx="90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re ______ a book on the teacher's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250920" y="4581360"/>
            <a:ext cx="887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There ______ 3 people in my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"/>
          <p:cNvSpPr/>
          <p:nvPr/>
        </p:nvSpPr>
        <p:spPr>
          <a:xfrm>
            <a:off x="2195640" y="2492280"/>
            <a:ext cx="5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"/>
          <p:cNvSpPr/>
          <p:nvPr/>
        </p:nvSpPr>
        <p:spPr>
          <a:xfrm>
            <a:off x="2195640" y="458136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5"/>
          <p:cNvSpPr/>
          <p:nvPr/>
        </p:nvSpPr>
        <p:spPr>
          <a:xfrm>
            <a:off x="684360" y="306864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re a book on the teacher's des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"/>
          <p:cNvSpPr/>
          <p:nvPr/>
        </p:nvSpPr>
        <p:spPr>
          <a:xfrm>
            <a:off x="684360" y="3573360"/>
            <a:ext cx="65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re is.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,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re is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7"/>
          <p:cNvSpPr/>
          <p:nvPr/>
        </p:nvSpPr>
        <p:spPr>
          <a:xfrm>
            <a:off x="684360" y="4076640"/>
            <a:ext cx="85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'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book on the teacher's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"/>
          <p:cNvSpPr/>
          <p:nvPr/>
        </p:nvSpPr>
        <p:spPr>
          <a:xfrm>
            <a:off x="755640" y="5156280"/>
            <a:ext cx="771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re 3 people in your fami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9"/>
          <p:cNvSpPr/>
          <p:nvPr/>
        </p:nvSpPr>
        <p:spPr>
          <a:xfrm>
            <a:off x="755640" y="5661000"/>
            <a:ext cx="71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  No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aren'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0"/>
          <p:cNvSpPr/>
          <p:nvPr/>
        </p:nvSpPr>
        <p:spPr>
          <a:xfrm>
            <a:off x="684360" y="616572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'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3 people in my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3012"/>
          <p:cNvSpPr/>
          <p:nvPr/>
        </p:nvSpPr>
        <p:spPr>
          <a:xfrm>
            <a:off x="1403280" y="76500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re be +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某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某地有某物或某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987640" y="11736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"/>
          <p:cNvSpPr/>
          <p:nvPr/>
        </p:nvSpPr>
        <p:spPr>
          <a:xfrm>
            <a:off x="179280" y="404640"/>
            <a:ext cx="7736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医院附近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家饭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邮局和银行之间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旅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动物园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很多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班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名学生吗？是的，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树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没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行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7111"/>
          <p:cNvSpPr/>
          <p:nvPr/>
        </p:nvSpPr>
        <p:spPr>
          <a:xfrm>
            <a:off x="250920" y="90792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is a restaurant near the hos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7112"/>
          <p:cNvSpPr/>
          <p:nvPr/>
        </p:nvSpPr>
        <p:spPr>
          <a:xfrm>
            <a:off x="34920" y="184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’s a hotel between the post office and the ba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7109"/>
          <p:cNvSpPr/>
          <p:nvPr/>
        </p:nvSpPr>
        <p:spPr>
          <a:xfrm>
            <a:off x="250920" y="328464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are many animals in the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7113"/>
          <p:cNvSpPr/>
          <p:nvPr/>
        </p:nvSpPr>
        <p:spPr>
          <a:xfrm>
            <a:off x="179280" y="4292640"/>
            <a:ext cx="841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there over 50 students in Class Two? Yes, there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7110"/>
          <p:cNvSpPr/>
          <p:nvPr/>
        </p:nvSpPr>
        <p:spPr>
          <a:xfrm>
            <a:off x="250920" y="5805360"/>
            <a:ext cx="83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isn't a bike under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6084"/>
          <p:cNvSpPr txBox="1"/>
          <p:nvPr/>
        </p:nvSpPr>
        <p:spPr>
          <a:xfrm>
            <a:off x="4427640" y="-98280"/>
            <a:ext cx="42480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ntences: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31745" descr="228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1746" descr="图片1"/>
          <p:cNvPicPr/>
          <p:nvPr/>
        </p:nvPicPr>
        <p:blipFill>
          <a:blip r:embed="rId2"/>
          <a:stretch/>
        </p:blipFill>
        <p:spPr>
          <a:xfrm>
            <a:off x="539640" y="189000"/>
            <a:ext cx="7848720" cy="5286240"/>
          </a:xfrm>
          <a:prstGeom prst="rect">
            <a:avLst/>
          </a:prstGeom>
          <a:ln w="0">
            <a:noFill/>
          </a:ln>
        </p:spPr>
      </p:pic>
      <p:sp>
        <p:nvSpPr>
          <p:cNvPr id="153" name="矩形 31747"/>
          <p:cNvSpPr/>
          <p:nvPr/>
        </p:nvSpPr>
        <p:spPr>
          <a:xfrm>
            <a:off x="755640" y="5661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re a supermark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ar 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there is. It’s near the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1749"/>
          <p:cNvSpPr/>
          <p:nvPr/>
        </p:nvSpPr>
        <p:spPr>
          <a:xfrm>
            <a:off x="4716360" y="333360"/>
            <a:ext cx="2743200" cy="1295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29697" descr="228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9698" descr="图片1"/>
          <p:cNvPicPr/>
          <p:nvPr/>
        </p:nvPicPr>
        <p:blipFill>
          <a:blip r:embed="rId2"/>
          <a:stretch/>
        </p:blipFill>
        <p:spPr>
          <a:xfrm>
            <a:off x="539640" y="260280"/>
            <a:ext cx="7848720" cy="5286600"/>
          </a:xfrm>
          <a:prstGeom prst="rect">
            <a:avLst/>
          </a:prstGeom>
          <a:ln w="0">
            <a:noFill/>
          </a:ln>
        </p:spPr>
      </p:pic>
      <p:sp>
        <p:nvSpPr>
          <p:cNvPr id="157" name="矩形 29699"/>
          <p:cNvSpPr/>
          <p:nvPr/>
        </p:nvSpPr>
        <p:spPr>
          <a:xfrm>
            <a:off x="179280" y="5661000"/>
            <a:ext cx="945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re a post offic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ar 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there is. It's on Bridge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9702"/>
          <p:cNvSpPr/>
          <p:nvPr/>
        </p:nvSpPr>
        <p:spPr>
          <a:xfrm>
            <a:off x="2195640" y="3357720"/>
            <a:ext cx="1904760" cy="12189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30721" descr="2286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0" name="矩形 30723"/>
          <p:cNvSpPr/>
          <p:nvPr/>
        </p:nvSpPr>
        <p:spPr>
          <a:xfrm>
            <a:off x="395280" y="5156280"/>
            <a:ext cx="85834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re a librar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ar 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It's between the restaurant and the 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pic_162190"/>
          <p:cNvPicPr/>
          <p:nvPr/>
        </p:nvPicPr>
        <p:blipFill>
          <a:blip r:embed="rId2"/>
          <a:stretch/>
        </p:blipFill>
        <p:spPr>
          <a:xfrm>
            <a:off x="468360" y="189000"/>
            <a:ext cx="8101080" cy="4805280"/>
          </a:xfrm>
          <a:prstGeom prst="rect">
            <a:avLst/>
          </a:prstGeom>
          <a:ln w="0">
            <a:noFill/>
          </a:ln>
        </p:spPr>
      </p:pic>
      <p:sp>
        <p:nvSpPr>
          <p:cNvPr id="162" name="矩形 31749"/>
          <p:cNvSpPr/>
          <p:nvPr/>
        </p:nvSpPr>
        <p:spPr>
          <a:xfrm>
            <a:off x="2556000" y="549360"/>
            <a:ext cx="1788840" cy="831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28600" y="2895480"/>
            <a:ext cx="2971800" cy="360"/>
            <a:chOff x="228600" y="2895480"/>
            <a:chExt cx="2971800" cy="360"/>
          </a:xfrm>
        </p:grpSpPr>
        <p:sp>
          <p:nvSpPr>
            <p:cNvPr id="164" name="直接连接符 35841"/>
            <p:cNvSpPr/>
            <p:nvPr/>
          </p:nvSpPr>
          <p:spPr>
            <a:xfrm>
              <a:off x="228600" y="2895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28600" y="289548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04920" y="3962520"/>
            <a:ext cx="2971800" cy="360"/>
            <a:chOff x="304920" y="3962520"/>
            <a:chExt cx="2971800" cy="360"/>
          </a:xfrm>
        </p:grpSpPr>
        <p:sp>
          <p:nvSpPr>
            <p:cNvPr id="167" name="直接连接符 35842"/>
            <p:cNvSpPr/>
            <p:nvPr/>
          </p:nvSpPr>
          <p:spPr>
            <a:xfrm>
              <a:off x="304920" y="39625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304920" y="3962520"/>
              <a:ext cx="297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276720" y="3962520"/>
            <a:ext cx="360" cy="2361960"/>
            <a:chOff x="3276720" y="3962520"/>
            <a:chExt cx="360" cy="2361960"/>
          </a:xfrm>
        </p:grpSpPr>
        <p:sp>
          <p:nvSpPr>
            <p:cNvPr id="170" name="直接连接符 35843"/>
            <p:cNvSpPr/>
            <p:nvPr/>
          </p:nvSpPr>
          <p:spPr>
            <a:xfrm>
              <a:off x="3276720" y="39625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276720" y="3962520"/>
              <a:ext cx="360" cy="236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200040" y="685800"/>
            <a:ext cx="360" cy="2286000"/>
            <a:chOff x="3200040" y="685800"/>
            <a:chExt cx="360" cy="2286000"/>
          </a:xfrm>
        </p:grpSpPr>
        <p:sp>
          <p:nvSpPr>
            <p:cNvPr id="173" name="直接连接符 35844"/>
            <p:cNvSpPr/>
            <p:nvPr/>
          </p:nvSpPr>
          <p:spPr>
            <a:xfrm flipV="1">
              <a:off x="3200400" y="6858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 rot="10800000">
              <a:off x="3200040" y="68580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924360" y="692280"/>
            <a:ext cx="360" cy="2133360"/>
            <a:chOff x="3924360" y="692280"/>
            <a:chExt cx="360" cy="2133360"/>
          </a:xfrm>
        </p:grpSpPr>
        <p:sp>
          <p:nvSpPr>
            <p:cNvPr id="176" name="直接连接符 35845"/>
            <p:cNvSpPr/>
            <p:nvPr/>
          </p:nvSpPr>
          <p:spPr>
            <a:xfrm>
              <a:off x="3924360" y="69228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3924360" y="692280"/>
              <a:ext cx="36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924360" y="2781360"/>
            <a:ext cx="1562040" cy="38160"/>
            <a:chOff x="3924360" y="2781360"/>
            <a:chExt cx="1562040" cy="38160"/>
          </a:xfrm>
        </p:grpSpPr>
        <p:sp>
          <p:nvSpPr>
            <p:cNvPr id="179" name="直接连接符 35846"/>
            <p:cNvSpPr/>
            <p:nvPr/>
          </p:nvSpPr>
          <p:spPr>
            <a:xfrm>
              <a:off x="3924360" y="2781360"/>
              <a:ext cx="1562040" cy="38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924360" y="2781360"/>
              <a:ext cx="156204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486040" y="685440"/>
            <a:ext cx="360" cy="2133720"/>
            <a:chOff x="5486040" y="685440"/>
            <a:chExt cx="360" cy="2133720"/>
          </a:xfrm>
        </p:grpSpPr>
        <p:sp>
          <p:nvSpPr>
            <p:cNvPr id="182" name="直接连接符 35847"/>
            <p:cNvSpPr/>
            <p:nvPr/>
          </p:nvSpPr>
          <p:spPr>
            <a:xfrm flipV="1">
              <a:off x="5486400" y="6854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0800000">
              <a:off x="5486040" y="68544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995640" y="4005360"/>
            <a:ext cx="360" cy="2286000"/>
            <a:chOff x="3995640" y="4005360"/>
            <a:chExt cx="360" cy="2286000"/>
          </a:xfrm>
        </p:grpSpPr>
        <p:sp>
          <p:nvSpPr>
            <p:cNvPr id="185" name="直接连接符 35848"/>
            <p:cNvSpPr/>
            <p:nvPr/>
          </p:nvSpPr>
          <p:spPr>
            <a:xfrm>
              <a:off x="3995640" y="4005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3995640" y="400536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995640" y="3933720"/>
            <a:ext cx="1414440" cy="28800"/>
            <a:chOff x="3995640" y="3933720"/>
            <a:chExt cx="1414440" cy="28800"/>
          </a:xfrm>
        </p:grpSpPr>
        <p:sp>
          <p:nvSpPr>
            <p:cNvPr id="188" name="直接连接符 35849"/>
            <p:cNvSpPr/>
            <p:nvPr/>
          </p:nvSpPr>
          <p:spPr>
            <a:xfrm>
              <a:off x="3995640" y="3933720"/>
              <a:ext cx="1414440" cy="28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995640" y="3933720"/>
              <a:ext cx="1414440" cy="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410080" y="3962520"/>
            <a:ext cx="360" cy="2209680"/>
            <a:chOff x="5410080" y="3962520"/>
            <a:chExt cx="360" cy="2209680"/>
          </a:xfrm>
        </p:grpSpPr>
        <p:sp>
          <p:nvSpPr>
            <p:cNvPr id="191" name="直接连接符 35850"/>
            <p:cNvSpPr/>
            <p:nvPr/>
          </p:nvSpPr>
          <p:spPr>
            <a:xfrm>
              <a:off x="5410080" y="39625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410080" y="3962520"/>
              <a:ext cx="36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324480" y="2781360"/>
            <a:ext cx="2208240" cy="38160"/>
            <a:chOff x="6324480" y="2781360"/>
            <a:chExt cx="2208240" cy="38160"/>
          </a:xfrm>
        </p:grpSpPr>
        <p:sp>
          <p:nvSpPr>
            <p:cNvPr id="194" name="直接连接符 35851"/>
            <p:cNvSpPr/>
            <p:nvPr/>
          </p:nvSpPr>
          <p:spPr>
            <a:xfrm flipV="1">
              <a:off x="6324480" y="2781360"/>
              <a:ext cx="2208240" cy="38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6324480" y="2781360"/>
              <a:ext cx="2208240" cy="3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324480" y="685800"/>
            <a:ext cx="360" cy="2133720"/>
            <a:chOff x="6324480" y="685800"/>
            <a:chExt cx="360" cy="2133720"/>
          </a:xfrm>
        </p:grpSpPr>
        <p:sp>
          <p:nvSpPr>
            <p:cNvPr id="197" name="直接连接符 35852"/>
            <p:cNvSpPr/>
            <p:nvPr/>
          </p:nvSpPr>
          <p:spPr>
            <a:xfrm>
              <a:off x="6324480" y="6858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6324480" y="68580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248520" y="4038480"/>
            <a:ext cx="360" cy="2133720"/>
            <a:chOff x="6248520" y="4038480"/>
            <a:chExt cx="360" cy="2133720"/>
          </a:xfrm>
        </p:grpSpPr>
        <p:sp>
          <p:nvSpPr>
            <p:cNvPr id="200" name="直接连接符 35853"/>
            <p:cNvSpPr/>
            <p:nvPr/>
          </p:nvSpPr>
          <p:spPr>
            <a:xfrm>
              <a:off x="6248520" y="403848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6248520" y="4038480"/>
              <a:ext cx="36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227280" y="3962160"/>
            <a:ext cx="2002320" cy="42840"/>
            <a:chOff x="6227280" y="3962160"/>
            <a:chExt cx="2002320" cy="42840"/>
          </a:xfrm>
        </p:grpSpPr>
        <p:sp>
          <p:nvSpPr>
            <p:cNvPr id="203" name="直接连接符 35854"/>
            <p:cNvSpPr/>
            <p:nvPr/>
          </p:nvSpPr>
          <p:spPr>
            <a:xfrm flipV="1">
              <a:off x="6227640" y="3962160"/>
              <a:ext cx="2001960" cy="42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0800000">
              <a:off x="6227280" y="3962160"/>
              <a:ext cx="2001960" cy="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3585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35856" descr="扫描0001"/>
          <p:cNvPicPr/>
          <p:nvPr/>
        </p:nvPicPr>
        <p:blipFill>
          <a:blip r:embed="rId1"/>
          <a:srcRect l="72502" t="65560" r="19168" b="9999"/>
          <a:stretch/>
        </p:blipFill>
        <p:spPr>
          <a:xfrm>
            <a:off x="4140360" y="4076640"/>
            <a:ext cx="1152360" cy="133668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5857" descr="扫描0001"/>
          <p:cNvPicPr/>
          <p:nvPr/>
        </p:nvPicPr>
        <p:blipFill>
          <a:blip r:embed="rId2"/>
          <a:srcRect l="29167" t="32503" r="61667" b="42222"/>
          <a:stretch/>
        </p:blipFill>
        <p:spPr>
          <a:xfrm>
            <a:off x="768240" y="765000"/>
            <a:ext cx="2203560" cy="194652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35858" descr="扫描0001"/>
          <p:cNvPicPr/>
          <p:nvPr/>
        </p:nvPicPr>
        <p:blipFill>
          <a:blip r:embed="rId3"/>
          <a:srcRect l="60835" t="32042" r="25833" b="40004"/>
          <a:stretch/>
        </p:blipFill>
        <p:spPr>
          <a:xfrm>
            <a:off x="250920" y="4005360"/>
            <a:ext cx="1944720" cy="191772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35859"/>
          <p:cNvSpPr/>
          <p:nvPr/>
        </p:nvSpPr>
        <p:spPr>
          <a:xfrm>
            <a:off x="395280" y="5805360"/>
            <a:ext cx="1309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35860"/>
          <p:cNvSpPr/>
          <p:nvPr/>
        </p:nvSpPr>
        <p:spPr>
          <a:xfrm>
            <a:off x="4140360" y="5589720"/>
            <a:ext cx="99036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流程图: 可选过程 35861"/>
          <p:cNvSpPr/>
          <p:nvPr/>
        </p:nvSpPr>
        <p:spPr>
          <a:xfrm>
            <a:off x="3995640" y="620640"/>
            <a:ext cx="1414440" cy="979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八边形 35862"/>
          <p:cNvSpPr/>
          <p:nvPr/>
        </p:nvSpPr>
        <p:spPr>
          <a:xfrm>
            <a:off x="3995640" y="1773360"/>
            <a:ext cx="1498680" cy="9903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5863"/>
          <p:cNvSpPr/>
          <p:nvPr/>
        </p:nvSpPr>
        <p:spPr>
          <a:xfrm>
            <a:off x="6516720" y="765000"/>
            <a:ext cx="1368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5864"/>
          <p:cNvSpPr/>
          <p:nvPr/>
        </p:nvSpPr>
        <p:spPr>
          <a:xfrm>
            <a:off x="6372360" y="4076640"/>
            <a:ext cx="155232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35865"/>
          <p:cNvSpPr/>
          <p:nvPr/>
        </p:nvSpPr>
        <p:spPr>
          <a:xfrm>
            <a:off x="6324480" y="2057400"/>
            <a:ext cx="1776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5866"/>
          <p:cNvSpPr/>
          <p:nvPr/>
        </p:nvSpPr>
        <p:spPr>
          <a:xfrm>
            <a:off x="6372360" y="5486400"/>
            <a:ext cx="18572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5869"/>
          <p:cNvSpPr/>
          <p:nvPr/>
        </p:nvSpPr>
        <p:spPr>
          <a:xfrm>
            <a:off x="3733920" y="32004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873"/>
          <p:cNvSpPr/>
          <p:nvPr/>
        </p:nvSpPr>
        <p:spPr>
          <a:xfrm>
            <a:off x="1476360" y="3141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enter  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5874"/>
          <p:cNvSpPr/>
          <p:nvPr/>
        </p:nvSpPr>
        <p:spPr>
          <a:xfrm>
            <a:off x="5150160" y="33336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875"/>
          <p:cNvSpPr/>
          <p:nvPr/>
        </p:nvSpPr>
        <p:spPr>
          <a:xfrm>
            <a:off x="4885560" y="404640"/>
            <a:ext cx="1399320" cy="67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Xingfu     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35881"/>
          <p:cNvSpPr/>
          <p:nvPr/>
        </p:nvSpPr>
        <p:spPr>
          <a:xfrm>
            <a:off x="19080" y="0"/>
            <a:ext cx="98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there a…near here? Yes, there is./No, there is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179280" y="6308640"/>
            <a:ext cx="898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re is the hospital? It's on Center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1"/>
          <p:cNvSpPr/>
          <p:nvPr/>
        </p:nvSpPr>
        <p:spPr>
          <a:xfrm>
            <a:off x="755640" y="1844640"/>
            <a:ext cx="783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火车站在超市和图书馆之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网球在哪？在椅子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2724120" y="692280"/>
            <a:ext cx="22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17410"/>
          <p:cNvSpPr/>
          <p:nvPr/>
        </p:nvSpPr>
        <p:spPr>
          <a:xfrm>
            <a:off x="611280" y="189000"/>
            <a:ext cx="7885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 and circle the places you hear in 1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7411"/>
          <p:cNvSpPr/>
          <p:nvPr/>
        </p:nvSpPr>
        <p:spPr>
          <a:xfrm>
            <a:off x="3708360" y="260280"/>
            <a:ext cx="12240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7412"/>
          <p:cNvSpPr/>
          <p:nvPr/>
        </p:nvSpPr>
        <p:spPr>
          <a:xfrm>
            <a:off x="1763640" y="1413000"/>
            <a:ext cx="4248360" cy="5104080"/>
          </a:xfrm>
          <a:prstGeom prst="rect">
            <a:avLst/>
          </a:prstGeom>
          <a:noFill/>
          <a:ln w="63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post office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olice station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hotel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restaurant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bank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hospital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street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pay phone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park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17413"/>
          <p:cNvSpPr/>
          <p:nvPr/>
        </p:nvSpPr>
        <p:spPr>
          <a:xfrm>
            <a:off x="2266920" y="3141720"/>
            <a:ext cx="2017800" cy="64764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17414"/>
          <p:cNvSpPr/>
          <p:nvPr/>
        </p:nvSpPr>
        <p:spPr>
          <a:xfrm>
            <a:off x="2266920" y="1484280"/>
            <a:ext cx="1873440" cy="647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17415"/>
          <p:cNvSpPr/>
          <p:nvPr/>
        </p:nvSpPr>
        <p:spPr>
          <a:xfrm>
            <a:off x="2195640" y="4221000"/>
            <a:ext cx="1584360" cy="64800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"/>
          <p:cNvSpPr/>
          <p:nvPr/>
        </p:nvSpPr>
        <p:spPr>
          <a:xfrm>
            <a:off x="577800" y="44280"/>
            <a:ext cx="898560" cy="9907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Unit08_A1b.mp3" descr=""/>
          <p:cNvPicPr/>
          <p:nvPr/>
        </p:nvPicPr>
        <p:blipFill>
          <a:blip r:embed="rId1"/>
          <a:stretch/>
        </p:blipFill>
        <p:spPr>
          <a:xfrm>
            <a:off x="6705720" y="266688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3803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6242495_211056022305_2"/>
          <p:cNvPicPr/>
          <p:nvPr/>
        </p:nvPicPr>
        <p:blipFill>
          <a:blip r:embed="rId1"/>
          <a:stretch/>
        </p:blipFill>
        <p:spPr>
          <a:xfrm>
            <a:off x="-1522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4191120" y="259092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liste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987640" y="11736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39640" y="2781360"/>
            <a:ext cx="8178840" cy="354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re b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句型不一般，主语跟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后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可变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s\are,  the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永远不变化，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数主语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，复数主语须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变疑问，很简单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须大写来提前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变否定，也轻松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记心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43012"/>
          <p:cNvSpPr/>
          <p:nvPr/>
        </p:nvSpPr>
        <p:spPr>
          <a:xfrm>
            <a:off x="1116000" y="907920"/>
            <a:ext cx="6337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re be +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名词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某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某地有某物或某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Find who we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8435"/>
          <p:cNvSpPr/>
          <p:nvPr/>
        </p:nvSpPr>
        <p:spPr>
          <a:xfrm>
            <a:off x="395280" y="19177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8436"/>
          <p:cNvSpPr/>
          <p:nvPr/>
        </p:nvSpPr>
        <p:spPr>
          <a:xfrm>
            <a:off x="395280" y="13399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8437"/>
          <p:cNvSpPr/>
          <p:nvPr/>
        </p:nvSpPr>
        <p:spPr>
          <a:xfrm>
            <a:off x="395280" y="2565360"/>
            <a:ext cx="3962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8438"/>
          <p:cNvSpPr/>
          <p:nvPr/>
        </p:nvSpPr>
        <p:spPr>
          <a:xfrm>
            <a:off x="395280" y="3139920"/>
            <a:ext cx="3962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8439"/>
          <p:cNvSpPr/>
          <p:nvPr/>
        </p:nvSpPr>
        <p:spPr>
          <a:xfrm>
            <a:off x="395280" y="3718080"/>
            <a:ext cx="198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8440"/>
          <p:cNvSpPr/>
          <p:nvPr/>
        </p:nvSpPr>
        <p:spPr>
          <a:xfrm>
            <a:off x="395280" y="4292640"/>
            <a:ext cx="198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8441"/>
          <p:cNvSpPr/>
          <p:nvPr/>
        </p:nvSpPr>
        <p:spPr>
          <a:xfrm>
            <a:off x="397080" y="48690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8442"/>
          <p:cNvSpPr/>
          <p:nvPr/>
        </p:nvSpPr>
        <p:spPr>
          <a:xfrm>
            <a:off x="397080" y="53737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8443"/>
          <p:cNvSpPr/>
          <p:nvPr/>
        </p:nvSpPr>
        <p:spPr>
          <a:xfrm>
            <a:off x="4211640" y="42210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8445"/>
          <p:cNvSpPr/>
          <p:nvPr/>
        </p:nvSpPr>
        <p:spPr>
          <a:xfrm>
            <a:off x="4211640" y="48690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付费电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8446"/>
          <p:cNvSpPr/>
          <p:nvPr/>
        </p:nvSpPr>
        <p:spPr>
          <a:xfrm>
            <a:off x="4211640" y="31399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餐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8447"/>
          <p:cNvSpPr/>
          <p:nvPr/>
        </p:nvSpPr>
        <p:spPr>
          <a:xfrm>
            <a:off x="4140360" y="13399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察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8448"/>
          <p:cNvSpPr/>
          <p:nvPr/>
        </p:nvSpPr>
        <p:spPr>
          <a:xfrm>
            <a:off x="4211640" y="53737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8449"/>
          <p:cNvSpPr/>
          <p:nvPr/>
        </p:nvSpPr>
        <p:spPr>
          <a:xfrm>
            <a:off x="4140360" y="256536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店、旅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450"/>
          <p:cNvSpPr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451"/>
          <p:cNvSpPr/>
          <p:nvPr/>
        </p:nvSpPr>
        <p:spPr>
          <a:xfrm>
            <a:off x="4140360" y="19177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971800" y="1905120"/>
            <a:ext cx="1265400" cy="1473120"/>
            <a:chOff x="2971800" y="1905120"/>
            <a:chExt cx="1265400" cy="1473120"/>
          </a:xfrm>
        </p:grpSpPr>
        <p:sp>
          <p:nvSpPr>
            <p:cNvPr id="254" name="直接连接符 18452"/>
            <p:cNvSpPr/>
            <p:nvPr/>
          </p:nvSpPr>
          <p:spPr>
            <a:xfrm>
              <a:off x="2971800" y="1905120"/>
              <a:ext cx="1265400" cy="1473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2971800" y="1905120"/>
              <a:ext cx="1265400" cy="1473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62320" y="2514600"/>
            <a:ext cx="1925640" cy="1971720"/>
            <a:chOff x="2362320" y="2514600"/>
            <a:chExt cx="1925640" cy="1971720"/>
          </a:xfrm>
        </p:grpSpPr>
        <p:sp>
          <p:nvSpPr>
            <p:cNvPr id="257" name="直接连接符 18454"/>
            <p:cNvSpPr/>
            <p:nvPr/>
          </p:nvSpPr>
          <p:spPr>
            <a:xfrm>
              <a:off x="2362320" y="2514600"/>
              <a:ext cx="1925640" cy="1971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2362320" y="2514600"/>
              <a:ext cx="1925640" cy="197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503360" y="2846520"/>
            <a:ext cx="2768760" cy="2241360"/>
            <a:chOff x="1503360" y="2846520"/>
            <a:chExt cx="2768760" cy="2241360"/>
          </a:xfrm>
        </p:grpSpPr>
        <p:sp>
          <p:nvSpPr>
            <p:cNvPr id="260" name="直接连接符 18455"/>
            <p:cNvSpPr/>
            <p:nvPr/>
          </p:nvSpPr>
          <p:spPr>
            <a:xfrm>
              <a:off x="1503360" y="2846520"/>
              <a:ext cx="2768760" cy="2241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503360" y="2846520"/>
              <a:ext cx="2768760" cy="22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544480" y="2886120"/>
            <a:ext cx="1703520" cy="541440"/>
            <a:chOff x="2544480" y="2886120"/>
            <a:chExt cx="1703520" cy="541440"/>
          </a:xfrm>
        </p:grpSpPr>
        <p:sp>
          <p:nvSpPr>
            <p:cNvPr id="263" name="直接连接符 18456"/>
            <p:cNvSpPr/>
            <p:nvPr/>
          </p:nvSpPr>
          <p:spPr>
            <a:xfrm flipV="1">
              <a:off x="2544840" y="2886120"/>
              <a:ext cx="1703160" cy="541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 rot="10800000">
              <a:off x="2544480" y="2886120"/>
              <a:ext cx="1703160" cy="54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980720" y="1698480"/>
            <a:ext cx="2165760" cy="2873520"/>
            <a:chOff x="1980720" y="1698480"/>
            <a:chExt cx="2165760" cy="2873520"/>
          </a:xfrm>
        </p:grpSpPr>
        <p:sp>
          <p:nvSpPr>
            <p:cNvPr id="266" name="直接连接符 18457"/>
            <p:cNvSpPr/>
            <p:nvPr/>
          </p:nvSpPr>
          <p:spPr>
            <a:xfrm flipV="1">
              <a:off x="1981080" y="1698480"/>
              <a:ext cx="2165400" cy="2873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 rot="10800000">
              <a:off x="1980720" y="1698480"/>
              <a:ext cx="2165400" cy="287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184120" y="2250720"/>
            <a:ext cx="2049840" cy="2779560"/>
            <a:chOff x="2184120" y="2250720"/>
            <a:chExt cx="2049840" cy="2779560"/>
          </a:xfrm>
        </p:grpSpPr>
        <p:sp>
          <p:nvSpPr>
            <p:cNvPr id="269" name="直接连接符 18458"/>
            <p:cNvSpPr/>
            <p:nvPr/>
          </p:nvSpPr>
          <p:spPr>
            <a:xfrm flipV="1">
              <a:off x="2184480" y="2250720"/>
              <a:ext cx="2049480" cy="2779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2184120" y="2250720"/>
              <a:ext cx="2049480" cy="27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599840" y="3936960"/>
            <a:ext cx="2708640" cy="1625760"/>
            <a:chOff x="1599840" y="3936960"/>
            <a:chExt cx="2708640" cy="1625760"/>
          </a:xfrm>
        </p:grpSpPr>
        <p:sp>
          <p:nvSpPr>
            <p:cNvPr id="272" name="直接连接符 18459"/>
            <p:cNvSpPr/>
            <p:nvPr/>
          </p:nvSpPr>
          <p:spPr>
            <a:xfrm flipV="1">
              <a:off x="1600200" y="3936960"/>
              <a:ext cx="2708280" cy="1625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 rot="10800000">
              <a:off x="1599840" y="3936960"/>
              <a:ext cx="2708280" cy="162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18460"/>
          <p:cNvSpPr/>
          <p:nvPr/>
        </p:nvSpPr>
        <p:spPr>
          <a:xfrm>
            <a:off x="4211640" y="36450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银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523880" y="4038480"/>
            <a:ext cx="2743200" cy="1676520"/>
            <a:chOff x="1523880" y="4038480"/>
            <a:chExt cx="2743200" cy="1676520"/>
          </a:xfrm>
        </p:grpSpPr>
        <p:sp>
          <p:nvSpPr>
            <p:cNvPr id="276" name="直接连接符 18461"/>
            <p:cNvSpPr/>
            <p:nvPr/>
          </p:nvSpPr>
          <p:spPr>
            <a:xfrm>
              <a:off x="1523880" y="4038480"/>
              <a:ext cx="2743200" cy="1676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523880" y="4038480"/>
              <a:ext cx="274320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222 1.58917E-006 C 0.02083 0.00601 0.01858 0.01573 0.01528 0.01989 C 0.01406 0.02891 0.01181 0.03585 0.00955 0.04441 C 0.0092 0.04742 0.00903 0.05066 0.00851 0.05366 C 0.00799 0.05667 0.00608 0.06269 0.00608 0.06292 C 0.00712 0.08351 0.00521 0.08258 0.01198 0.09484 C 0.01302 0.10132 0.01424 0.10571 0.01771 0.11034 C 0.01944 0.1182 0.02448 0.12491 0.02795 0.13162 C 0.03351 0.14249 0.02726 0.13 0.03264 0.14087 C 0.03333 0.14249 0.0349 0.1455 0.0349 0.14573 C 0.03403 0.15521 0.03507 0.16817 0.02691 0.17141 C 0.02604 0.17256 0.02552 0.17395 0.02448 0.17465 C 0.02344 0.17534 0.02205 0.17488 0.02118 0.17603 C 0.01962 0.17812 0.01719 0.18968 0.01649 0.19292 C 0.01615 0.20472 0.0158 0.21628 0.01528 0.22808 C 0.0151 0.23201 0.01458 0.24751 0.01302 0.24821 C 0.00868 0.25006 0.00382 0.24913 -0.00069 0.24959 C -0.01788 0.25769 -0.05833 0.27273 -0.05243 0.24358 C -0.04253 0.24404 -0.03247 0.24404 -0.02257 0.24497 C -0.01719 0.24543 -0.00642 0.24821 -0.00642 0.24844 E">
                                      <p:cBhvr>
                                        <p:cTn id="56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28 -0.00972 C 0.00035 -0.00879 0.01094 -0.00602 0.02205 -0.00162 C 0.02761 0.00902 0.0283 0.01156 0.02431 0.02729 C 0.02327 0.03123 0.02222 0.03539 0.01979 0.03724 C 0.01389 0.0421 0.0165 0.03932 0.01181 0.04418 C 0.00799 0.06037 0.01025 0.0606 0.01632 0.06986 C 0.01997 0.07495 0.01875 0.07888 0.02327 0.08304 C 0.02483 0.08697 0.02865 0.08906 0.029 0.09345 C 0.02969 0.10386 0.02847 0.11381 0.02778 0.12399 C 0.02761 0.12584 0.02761 0.12792 0.02674 0.12931 C 0.025 0.13208 0.02188 0.13254 0.01979 0.13416 C 0.01667 0.14735 0.01702 0.16169 0.02205 0.17372 C 0.02483 0.19315 0.03038 0.21975 0.01979 0.23479 C 0.01771 0.24335 0.01389 0.25075 0.00938 0.25676 C 0.00868 0.25885 0.00816 0.26139 0.00712 0.2637 C 0.00625 0.26579 0.00452 0.26694 0.00365 0.26879 C -0.00173 0.28082 0.00712 0.26764 0.00018 0.27712 C -0.00121 0.28383 -0.00017 0.28776 0.00139 0.29447 C 0.00174 0.29794 0.00139 0.30257 0.00261 0.30604 C 0.00382 0.3095 0.00643 0.31205 0.00834 0.31459 C 0.01094 0.31876 0.01198 0.32709 0.01406 0.33171 C 0.01372 0.34073 0.01754 0.35299 0.01285 0.35878 C 0.00729 0.36641 -0.00173 0.3604 -0.00903 0.3604 C -0.01857 0.3604 -0.02812 0.35947 -0.03767 0.35878 C -0.04097 0.3449 -0.02153 0.35207 -0.00903 0.35207 E">
                                      <p:cBhvr>
                                        <p:cTn id="568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73 -0.20587 C 0.21111 -0.20957 0.21007 -0.19523 0.23125 -0.18343 C 0.23854 -0.15336 0.24011 -0.15498 0.23091 -0.12167 C 0.22917 -0.11496 0.23177 -0.11219 0.22986 -0.10548 C 0.22639 -0.09784 0.21163 -0.08443 0.20625 -0.07772 C 0.1908 -0.05736 0.18125 -0.03863 0.16424 -0.01943 C 0.15643 -0.00601 0.14479 0.00926 0.13299 0.02337 C 0.12587 0.03933 0.12969 0.04904 0.12379 0.06269 C 0.13559 0.09184 0.19445 0.16147 0.11528 0.24613 C 0.11146 0.25423 0.09497 0.27805 0.08663 0.28592 C 0.08472 0.30859 0.04896 0.32432 0.02934 0.33981 E">
                                      <p:cBhvr>
                                        <p:cTn id="57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00486E-006 C 0.00694 -0.00047 0.01441 0.00092 0.02066 -0.00232 C 0.0302 -0.00741 0.03281 -0.01088 0.04375 -0.01249 C 0.04948 -0.01481 0.04652 -0.01296 0.05295 -0.02013 C 0.05416 -0.02152 0.05625 -0.02383 0.05625 -0.02383 C 0.05729 -0.02707 0.05729 -0.03077 0.05868 -0.03401 C 0.06076 -0.0391 0.06423 -0.0428 0.06788 -0.0465 C 0.06753 -0.05529 0.06736 -0.06431 0.06666 -0.07287 C 0.06562 -0.08605 0.05295 -0.08675 0.04375 -0.0879 C 0.03472 -0.09137 0.02968 -0.09299 0.01961 -0.09299 E">
                                      <p:cBhvr>
                                        <p:cTn id="57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82443E-006 C 0.00921 0.00047 0.01841 -2.82443000000003E-006 0.02761 0.00139 C 0.03351 0.00232 0.03421 0.01018 0.03681 0.01527 C 0.03959 0.02059 0.04427 0.02406 0.04723 0.02915 C 0.05191 0.03725 0.05365 0.04696 0.05521 0.05668 C 0.05695 0.08814 0.05677 0.07356 0.05521 0.11335 C 0.05469 0.12677 0.05487 0.13625 0.04948 0.14689 C 0.04757 0.15522 0.04601 0.16355 0.0415 0.17002 C 0.03924 0.18113 0.03473 0.19362 0.02882 0.20218 C 0.02587 0.21328 0.03021 0.2304 0.01841 0.23271 C 0.01424 0.23341 0.01007 0.23387 0.00591 0.23433 C 0.0033 0.23757 0.00052 0.23757 -0.00104 0.24196 E">
                                      <p:cBhvr>
                                        <p:cTn id="57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0.03008 C 0.01458 0.04534 0.05017 0.03193 0.0842 0.03008 C 0.09288 0.02661 0.10156 0.02221 0.11059 0.02082 C 0.1118 0.0199 0.11302 0.01851 0.11423 0.01758 C 0.11597 0.0162 0.11771 0.01504 0.11944 0.01435 C 0.12187 0.01203 0.12673 0.00764 0.12673 0.0081 C 0.12986 0.00116 0.13177 -0.00231 0.13576 -0.00694 C 0.13854 -0.01457 0.14271 -0.01896 0.14583 -0.02637 C 0.14826 -0.03215 0.14948 -0.03839 0.15208 -0.04418 C 0.15486 -0.06176 0.15225 -0.05528 0.15833 -0.06546 C 0.16041 -0.07356 0.16232 -0.0798 0.16562 -0.08628 C 0.17239 -0.12005 0.16892 -0.15961 0.14062 -0.17048 C 0.13455 -0.17904 0.11805 -0.18066 0.10937 -0.18852 C 0.10816 -0.19222 0.10712 -0.19777 0.10434 -0.19986 C 0.10052 -0.20333 0.09548 -0.2031 0.09166 -0.20633 C 0.08993 -0.20842 0.08871 -0.21119 0.08663 -0.21304 C 0.08316 -0.21605 0.07899 -0.21697 0.07552 -0.21952 C 0.07361 -0.22646 0.07048 -0.22623 0.06545 -0.22923 C 0.06337 -0.23687 0.05729 -0.23941 0.05295 -0.24543 C 0.05139 -0.2526 0.04844 -0.26023 0.04531 -0.26625 C 0.04184 -0.28683 0.04375 -0.30742 0.04149 -0.32801 C 0.03958 -0.34466 0.04288 -0.33934 0.03767 -0.34605 C 0.03628 -0.35207 0.03437 -0.36178 0.03142 -0.36733 C 0.02812 -0.37381 0.02222 -0.37936 0.01771 -0.38491 C 0.01059 -0.39278 0.01441 -0.39278 0.01024 -0.39278 E">
                                      <p:cBhvr>
                                        <p:cTn id="57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82443E-006 C 0.00347 -0.00092 0.00729 -0.00069 0.01024 -0.003 C 0.01389 -0.00578 0.01423 -0.01295 0.01718 -0.01688 C 0.02239 -0.02359 0.0276 -0.02891 0.03211 -0.03678 C 0.03246 -0.04094 0.03333 -0.04487 0.03333 -0.04904 C 0.03333 -0.06639 0.03316 -0.08373 0.03211 -0.10108 C 0.03194 -0.10525 0.0283 -0.10663 0.02639 -0.10872 C 0.02083 -0.11473 0.0151 -0.12167 0.0092 -0.12722 C 0.00746 -0.13416 0.0033 -0.13856 -0.00122 -0.14249 C -0.00226 -0.14712 -0.00469 -0.15637 -0.00469 -0.15637 C -0.00504 -0.1603 -0.00452 -0.1647 -0.00573 -0.1684 C -0.00625 -0.16979 -0.00816 -0.16909 -0.0092 -0.17002 C -0.0132 -0.17372 -0.01476 -0.17696 -0.01962 -0.17927 C -0.02431 -0.17696 -0.02379 -0.17372 -0.02657 -0.1684 C -0.03021 -0.15336 -0.03438 -0.12491 -0.02535 -0.11496 C -0.02327 -0.11265 -0.01997 -0.11311 -0.01736 -0.11196 C -0.00625 -0.11242 0.00486 -0.11196 0.01597 -0.11334 C 0.01927 -0.11381 0.02413 -0.11959 0.0276 -0.12098 C 0.03107 -0.12398 0.03559 -0.12422 0.03906 -0.12722 C 0.04218 -0.13 0.04705 -0.13786 0.04705 -0.13786 C 0.04982 -0.15313 0.05277 -0.15267 0.05746 -0.16539 C 0.05868 -0.1721 0.06041 -0.17858 0.06198 -0.18528 C 0.06284 -0.21235 0.06753 -0.23803 0.06319 -0.26509 C 0.0625 -0.26972 0.05816 -0.2718 0.05625 -0.27573 C 0.05503 -0.28151 0.05243 -0.28545 0.05052 -0.291 C 0.04652 -0.30279 0.0434 -0.31552 0.03784 -0.32616 C 0.03559 -0.33634 0.03159 -0.35415 0.02639 -0.36155 C 0.02465 -0.36803 0.02274 -0.36618 0.01944 -0.37057 C 0.01354 -0.37844 0.01111 -0.38075 0.00347 -0.38445 C 0.00173 -0.38676 0.00069 -0.39 -0.00122 -0.39208 C -0.00417 -0.39532 -0.01598 -0.39833 -0.01962 -0.39833 E">
                                      <p:cBhvr>
                                        <p:cTn id="57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4881 C 0.00903 -0.0391 -0.000169999999999997 -0.04511 0.03507 -0.04511 C 0.05764 -0.04511 0.08021 -0.04604 0.10278 -0.04627 C 0.11476 -0.04928 0.10069 -0.04627 0.12587 -0.04881 C 0.13125 -0.04928 0.13663 -0.05205 0.14184 -0.05367 C 0.14306 -0.0546 0.1441 -0.05552 0.14531 -0.05645 C 0.14635 -0.05691 0.14774 -0.05668 0.14878 -0.0576 C 0.15278 -0.06038 0.15434 -0.06315 0.1592 -0.06501 C 0.16406 -0.07033 0.16458 -0.07773 0.16597 -0.0849 C 0.16528 -0.1034 0.16788 -0.10711 0.16024 -0.11867 C 0.15833 -0.12769 0.15573 -0.12631 0.15104 -0.13232 C 0.14201 -0.14435 0.15469 -0.12908 0.14653 -0.1388 C 0.14323 -0.14851 0.13038 -0.15892 0.12344 -0.16609 C 0.12031 -0.1691 0.1151 -0.16702 0.11094 -0.16725 C 0.08906 -0.17257 0.08802 -0.17026 0.05226 -0.17118 C 0.04757 -0.17488 0.04531 -0.17835 0.03958 -0.17974 C 0.0349 -0.18321 0.03003 -0.18737 0.02813 -0.19362 C 0.02656 -0.19871 0.02587 -0.20334 0.0224 -0.20727 C 0.01597 -0.22693 0.00156 -0.22207 -0.01667 -0.22207 E">
                                      <p:cBhvr>
                                        <p:cTn id="580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N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558972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ost off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0243" descr="1001131354fe689837ae519d9d"/>
          <p:cNvPicPr/>
          <p:nvPr/>
        </p:nvPicPr>
        <p:blipFill>
          <a:blip r:embed="rId1"/>
          <a:stretch/>
        </p:blipFill>
        <p:spPr>
          <a:xfrm>
            <a:off x="179280" y="1123920"/>
            <a:ext cx="3581640" cy="4415040"/>
          </a:xfrm>
          <a:prstGeom prst="rect">
            <a:avLst/>
          </a:prstGeom>
          <a:ln w="0">
            <a:noFill/>
          </a:ln>
        </p:spPr>
      </p:pic>
      <p:sp>
        <p:nvSpPr>
          <p:cNvPr id="51" name="矩形 10244"/>
          <p:cNvSpPr/>
          <p:nvPr/>
        </p:nvSpPr>
        <p:spPr>
          <a:xfrm>
            <a:off x="4861080" y="57340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olice s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0246" descr="0405"/>
          <p:cNvPicPr/>
          <p:nvPr/>
        </p:nvPicPr>
        <p:blipFill>
          <a:blip r:embed="rId2"/>
          <a:stretch/>
        </p:blipFill>
        <p:spPr>
          <a:xfrm>
            <a:off x="3809880" y="1133640"/>
            <a:ext cx="51055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15640" y="5877000"/>
            <a:ext cx="3962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268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N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1271" descr="pic1_5285"/>
          <p:cNvPicPr/>
          <p:nvPr/>
        </p:nvPicPr>
        <p:blipFill>
          <a:blip r:embed="rId1"/>
          <a:stretch/>
        </p:blipFill>
        <p:spPr>
          <a:xfrm>
            <a:off x="0" y="1066680"/>
            <a:ext cx="4505400" cy="47656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272" descr="pa"/>
          <p:cNvPicPr/>
          <p:nvPr/>
        </p:nvPicPr>
        <p:blipFill>
          <a:blip r:embed="rId2"/>
          <a:stretch/>
        </p:blipFill>
        <p:spPr>
          <a:xfrm>
            <a:off x="4788000" y="1052640"/>
            <a:ext cx="4162320" cy="4806720"/>
          </a:xfrm>
          <a:prstGeom prst="rect">
            <a:avLst/>
          </a:prstGeom>
          <a:ln w="0">
            <a:noFill/>
          </a:ln>
        </p:spPr>
      </p:pic>
      <p:sp>
        <p:nvSpPr>
          <p:cNvPr id="57" name="矩形 11273"/>
          <p:cNvSpPr/>
          <p:nvPr/>
        </p:nvSpPr>
        <p:spPr>
          <a:xfrm>
            <a:off x="5364000" y="5950080"/>
            <a:ext cx="39625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stau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00000" y="5950080"/>
            <a:ext cx="198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291"/>
          <p:cNvSpPr/>
          <p:nvPr/>
        </p:nvSpPr>
        <p:spPr>
          <a:xfrm>
            <a:off x="457200" y="6094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N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2292" descr="70_1261795504"/>
          <p:cNvPicPr/>
          <p:nvPr/>
        </p:nvPicPr>
        <p:blipFill>
          <a:blip r:embed="rId1"/>
          <a:stretch/>
        </p:blipFill>
        <p:spPr>
          <a:xfrm>
            <a:off x="108000" y="1484280"/>
            <a:ext cx="4038480" cy="43592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2293" descr="75_1292862183"/>
          <p:cNvPicPr/>
          <p:nvPr/>
        </p:nvPicPr>
        <p:blipFill>
          <a:blip r:embed="rId2"/>
          <a:stretch/>
        </p:blipFill>
        <p:spPr>
          <a:xfrm>
            <a:off x="4427640" y="1484280"/>
            <a:ext cx="4419360" cy="4321080"/>
          </a:xfrm>
          <a:prstGeom prst="rect">
            <a:avLst/>
          </a:prstGeom>
          <a:ln w="0">
            <a:noFill/>
          </a:ln>
        </p:spPr>
      </p:pic>
      <p:sp>
        <p:nvSpPr>
          <p:cNvPr id="62" name="矩形 12294"/>
          <p:cNvSpPr/>
          <p:nvPr/>
        </p:nvSpPr>
        <p:spPr>
          <a:xfrm>
            <a:off x="5219640" y="5877000"/>
            <a:ext cx="29401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s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3315"/>
          <p:cNvSpPr/>
          <p:nvPr/>
        </p:nvSpPr>
        <p:spPr>
          <a:xfrm>
            <a:off x="457200" y="6094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5050"/>
                </a:solidFill>
                <a:latin typeface="Comic Sans MS"/>
              </a:rPr>
              <a:t>N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3318"/>
          <p:cNvSpPr/>
          <p:nvPr/>
        </p:nvSpPr>
        <p:spPr>
          <a:xfrm>
            <a:off x="1407600" y="53006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y ph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3319"/>
          <p:cNvSpPr/>
          <p:nvPr/>
        </p:nvSpPr>
        <p:spPr>
          <a:xfrm>
            <a:off x="6229440" y="580536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Users\ysoh\AppData\Local\Microsoft\Windows\Temporary Internet Files\Content.IE5\B4RXWLND\MP900385974[1].jpg"/>
          <p:cNvPicPr/>
          <p:nvPr/>
        </p:nvPicPr>
        <p:blipFill>
          <a:blip r:embed="rId1"/>
          <a:stretch/>
        </p:blipFill>
        <p:spPr>
          <a:xfrm>
            <a:off x="324000" y="1557360"/>
            <a:ext cx="4787640" cy="342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ysoh\AppData\Local\Microsoft\Windows\Temporary Internet Files\Content.IE5\CNMQD2I0\MP900177558[1].jpg"/>
          <p:cNvPicPr/>
          <p:nvPr/>
        </p:nvPicPr>
        <p:blipFill>
          <a:blip r:embed="rId2"/>
          <a:stretch/>
        </p:blipFill>
        <p:spPr>
          <a:xfrm>
            <a:off x="5435640" y="1268280"/>
            <a:ext cx="3200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N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8435"/>
          <p:cNvSpPr/>
          <p:nvPr/>
        </p:nvSpPr>
        <p:spPr>
          <a:xfrm>
            <a:off x="395280" y="19177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8436"/>
          <p:cNvSpPr/>
          <p:nvPr/>
        </p:nvSpPr>
        <p:spPr>
          <a:xfrm>
            <a:off x="395280" y="13399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8437"/>
          <p:cNvSpPr/>
          <p:nvPr/>
        </p:nvSpPr>
        <p:spPr>
          <a:xfrm>
            <a:off x="395280" y="2565360"/>
            <a:ext cx="3962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8438"/>
          <p:cNvSpPr/>
          <p:nvPr/>
        </p:nvSpPr>
        <p:spPr>
          <a:xfrm>
            <a:off x="395280" y="3139920"/>
            <a:ext cx="3962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8439"/>
          <p:cNvSpPr/>
          <p:nvPr/>
        </p:nvSpPr>
        <p:spPr>
          <a:xfrm>
            <a:off x="395280" y="3718080"/>
            <a:ext cx="198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8440"/>
          <p:cNvSpPr/>
          <p:nvPr/>
        </p:nvSpPr>
        <p:spPr>
          <a:xfrm>
            <a:off x="395280" y="4292640"/>
            <a:ext cx="198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8441"/>
          <p:cNvSpPr/>
          <p:nvPr/>
        </p:nvSpPr>
        <p:spPr>
          <a:xfrm>
            <a:off x="397080" y="48690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8442"/>
          <p:cNvSpPr/>
          <p:nvPr/>
        </p:nvSpPr>
        <p:spPr>
          <a:xfrm>
            <a:off x="397080" y="53737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443"/>
          <p:cNvSpPr/>
          <p:nvPr/>
        </p:nvSpPr>
        <p:spPr>
          <a:xfrm>
            <a:off x="4211640" y="42210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8445"/>
          <p:cNvSpPr/>
          <p:nvPr/>
        </p:nvSpPr>
        <p:spPr>
          <a:xfrm>
            <a:off x="4211640" y="48690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付费电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8446"/>
          <p:cNvSpPr/>
          <p:nvPr/>
        </p:nvSpPr>
        <p:spPr>
          <a:xfrm>
            <a:off x="4211640" y="31399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餐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8447"/>
          <p:cNvSpPr/>
          <p:nvPr/>
        </p:nvSpPr>
        <p:spPr>
          <a:xfrm>
            <a:off x="4140360" y="13399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察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8448"/>
          <p:cNvSpPr/>
          <p:nvPr/>
        </p:nvSpPr>
        <p:spPr>
          <a:xfrm>
            <a:off x="4211640" y="53737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8449"/>
          <p:cNvSpPr/>
          <p:nvPr/>
        </p:nvSpPr>
        <p:spPr>
          <a:xfrm>
            <a:off x="4140360" y="256536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店、旅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8450"/>
          <p:cNvSpPr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8451"/>
          <p:cNvSpPr/>
          <p:nvPr/>
        </p:nvSpPr>
        <p:spPr>
          <a:xfrm>
            <a:off x="4140360" y="191772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8460"/>
          <p:cNvSpPr/>
          <p:nvPr/>
        </p:nvSpPr>
        <p:spPr>
          <a:xfrm>
            <a:off x="4211640" y="36450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银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395280" y="5950080"/>
            <a:ext cx="159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"/>
          <p:cNvSpPr/>
          <p:nvPr/>
        </p:nvSpPr>
        <p:spPr>
          <a:xfrm>
            <a:off x="4211640" y="595008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附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4821120" y="458316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324000" y="1197000"/>
            <a:ext cx="363528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ost office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olice station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hotel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estaurant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bank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hospital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street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pay phone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park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3184560" y="18414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681280" y="5299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868400" y="59468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2754360" y="3025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1889280" y="47941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746360" y="241776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1801800" y="3638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2320920" y="42148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2681280" y="126216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79280" y="0"/>
            <a:ext cx="7274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Match the activities with the </a:t>
            </a:r>
            <a:br>
              <a:rPr sz="3600"/>
            </a:br>
            <a:r>
              <a:rPr b="1" lang="en-US" sz="3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    pi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"/>
          <p:cNvSpPr/>
          <p:nvPr/>
        </p:nvSpPr>
        <p:spPr>
          <a:xfrm>
            <a:off x="0" y="0"/>
            <a:ext cx="898560" cy="9907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8206" descr="(6TI]IUQE6FT{]RMVDE]DDP"/>
          <p:cNvPicPr/>
          <p:nvPr/>
        </p:nvPicPr>
        <p:blipFill>
          <a:blip r:embed="rId1"/>
          <a:stretch/>
        </p:blipFill>
        <p:spPr>
          <a:xfrm>
            <a:off x="3635280" y="620640"/>
            <a:ext cx="5508720" cy="6093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46083"/>
          <p:cNvSpPr/>
          <p:nvPr/>
        </p:nvSpPr>
        <p:spPr>
          <a:xfrm>
            <a:off x="0" y="1052640"/>
            <a:ext cx="38163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大街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医院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住在邮局附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他们去警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骑自行车去饭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旅馆和银行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6084"/>
          <p:cNvSpPr txBox="1"/>
          <p:nvPr/>
        </p:nvSpPr>
        <p:spPr>
          <a:xfrm>
            <a:off x="1187280" y="-100080"/>
            <a:ext cx="424836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hrases: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文本框 46085"/>
          <p:cNvSpPr/>
          <p:nvPr/>
        </p:nvSpPr>
        <p:spPr>
          <a:xfrm>
            <a:off x="2050920" y="112392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the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46086"/>
          <p:cNvSpPr/>
          <p:nvPr/>
        </p:nvSpPr>
        <p:spPr>
          <a:xfrm>
            <a:off x="2340000" y="1989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ork in a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6087"/>
          <p:cNvSpPr/>
          <p:nvPr/>
        </p:nvSpPr>
        <p:spPr>
          <a:xfrm>
            <a:off x="2771640" y="2924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ve near the pos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6088"/>
          <p:cNvSpPr/>
          <p:nvPr/>
        </p:nvSpPr>
        <p:spPr>
          <a:xfrm>
            <a:off x="2700360" y="3789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ake them to the police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6089"/>
          <p:cNvSpPr/>
          <p:nvPr/>
        </p:nvSpPr>
        <p:spPr>
          <a:xfrm>
            <a:off x="3060720" y="4653000"/>
            <a:ext cx="57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 to the restaurant by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46090"/>
          <p:cNvSpPr/>
          <p:nvPr/>
        </p:nvSpPr>
        <p:spPr>
          <a:xfrm>
            <a:off x="2700360" y="6021360"/>
            <a:ext cx="67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etween the hotel and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5:14:37Z</dcterms:created>
  <dc:creator>999宝藏网</dc:creator>
  <dc:description/>
  <dc:language>en-US</dc:language>
  <cp:lastModifiedBy>Administrator</cp:lastModifiedBy>
  <dcterms:modified xsi:type="dcterms:W3CDTF">2016-05-11T05:49:32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